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0EC96-868F-4FC1-B354-F42504E030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F323A-E946-4C72-A385-7921F123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C97B20-F8E1-465A-BB8B-E66CB28B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3EBB89-03DC-404D-BF18-7F0515FB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480DDB-1ECD-47B9-A6F8-017CD221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95B50A-294D-4C1C-9C1A-B9EA1F91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49C2A3-E36C-46AC-85B6-34676B9D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BF0DCE-A064-459F-B240-F8C4A9D7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12BEC7-1233-4F38-8EC7-D326283B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D1C342-7ED9-4F46-947B-91FEA0DD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28B881-A5BD-4044-A376-2F329C8BB1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E628A-D6D3-49D4-84A5-92C6E6856C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D1CD8-07B8-4683-B76D-8E9065EB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5A0BE-EB2B-45E3-8AD3-DB0DEF17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69FD6-00D2-4E97-9D84-62467A77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18F27-75CE-4E9C-9319-1FB3CDB6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FF11F-46EC-4A8A-B640-5CFB08B9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C9234-C587-44E3-AECF-D57F6F32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544B0-0157-490F-B522-06BEA4CD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986C6-BC7F-4333-A35B-A234C994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9C40B-0237-4F8A-974B-8DD2C058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A9C5A-7666-45BB-8198-F1342A9C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B348B-EDE5-4A8E-A8C4-87DED15E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40500-DF20-466E-9DE9-5DFDA536F7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739CF-D1C9-454B-9578-487BAD2B10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9AA487-902A-4FA4-90BA-84076110C7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F75A76-8CC9-47A2-8062-C3AB4FC0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B18F59-309E-4EB7-8438-776EE6B2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CC9E2E-4468-400E-9998-1A267E6B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639D2C-AB79-4725-9A9E-9AD1F90D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E087FF-DD14-4AF3-90F7-74B42A92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B4C8D8-F1FE-4CFA-9896-7AF69F16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145265-E47F-4DCF-A19D-AB5D8CE4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B13678-AD04-4BC5-ABD6-6EC7A423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AC6D8-EAE2-42CC-A00A-BEA26644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795885-D303-4955-9BA0-851D2CB7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17EAE7-50AA-4437-8E6A-2315326C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D10006-7AE3-4535-8BFD-F09088C8A3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B3BFE-DE2F-4208-BE02-D32A314FD2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4F9EF5-F1FE-4CA2-B1CB-521778EF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AB8C0-D7B6-4346-A9D6-F626464A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CD2B70-4B18-4B4B-9959-43120E1F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27B24-7803-4F99-8158-40F3EDA8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CAA34-29FF-43FD-9D75-8463CC46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8D2CF-D1E4-4577-8869-CE50B828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6B676-7838-446B-A792-15A5FEDA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872AF-FB47-469B-A1DA-3B5FA6C8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56329F-1EC9-4147-9A6E-AD4BF0DE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0B29D-8840-48C8-8B2C-05C0B4C3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A3595-2F24-450E-92E6-BFE26E65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FC71F2-7FAE-41F6-9DD7-0FBD6C548C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9D29D-4D16-4FCD-9BB8-E15528BEDE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8ACEC-123D-4DFE-A2EC-A5A01016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8C1EB-CCF8-4F8D-BF55-452C2053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4986F-81A6-478F-A82A-725C8428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71793-3535-40DE-AF16-46DB1CD2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8674D-CFB4-4585-A39F-CD72DE88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F2250-CB00-47B6-AD24-E975FD9D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81E9A-2ECC-4698-9656-8BA21B7F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C7E4A-3063-4D9F-BD81-71ADD2AE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5CCF1-F9EF-4548-A3A5-7D62AD40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176AE-C827-4483-B972-B43F93A6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BD0B7-B11E-4A14-AB22-E2C1A3EE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6E80F-910B-4400-9EDB-AFA75517F4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14836-4609-470E-BD31-A65FC27D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8160D-37A2-4B94-BBE5-DACD2E33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A92C1-CEB5-4C2E-9411-AF3E3121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1A75F-6B64-49D5-8794-42BAD04A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D2C89-54FE-4ED7-9615-4F4FD73B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CD8DB-938F-42ED-8089-73892C49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F2740-1667-456C-95FE-FC08E3E5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16133-A00C-46DA-9FFD-DF6F3C6D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38862-4B4B-4968-ACED-B072C5F0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3945E-0CB9-4A8A-85BE-79D93675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B8E08-A58F-4783-93F8-E289092E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2E524-AE9A-4217-B10F-3039E45D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1A6F1-C009-48BB-9E66-061E231F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FAC9A-3678-45CD-9087-FD6AF1D0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D3D83-5F6A-456F-89F3-4113CBB0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264FC-4888-476E-9984-8757F2F4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E0D9A-B942-4A95-BC88-D23B097D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4885F-6F04-425B-98CB-040841BE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CF10F-7A72-415E-A2D9-51C4C444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8538E-6521-48AE-AF89-BC63ECF1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EAFD1-DDB0-4568-A15A-E6DD01D7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57AF6-572B-4736-9FC3-53B65162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0EA6A-4349-47D7-B148-8408B148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4EC0B-36F4-4D1B-B1CA-02164E47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6B397-C126-48C6-82BE-C21F1C89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BC368-0EB4-4209-B9F8-EF7175C0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E0449-618C-48BA-8EED-1ADB9CC2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4EC30-70EB-4AD9-94A1-B3BAB418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36BD2-75BD-464F-9032-C1BAF086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7278C-E969-44E1-973A-D4D4F0F3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9DA31-1384-457F-AAC0-48193541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32D37-99E8-4999-8687-E2A21D07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9C658-1105-4000-96DE-9D00E159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33AB6-8FDB-40F2-9CDC-BB70F689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0F73A-8664-41EB-A108-A6609B65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39AD0-7985-4E62-AFB9-B452DD74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51724-ECAE-4227-81E0-CF0A92CA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1FE21-84C3-4AAA-AB45-329C2B7C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74B34-20B7-410C-B5A4-DB9F4B13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D0846-DD94-4825-9916-EB4575D4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CE72B7-232B-44D3-99B0-6D0398B6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85EA7-BA1A-4C5E-93E1-6F634742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48ACA-9E89-4327-9739-01A170A8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C8D03F-FA95-4976-A97E-C2335636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564AA8-7827-4DD3-A29C-C4AE13C1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C3749-A898-4570-889E-BF969F6F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F8815-2928-4C02-A49E-C38AD671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96C64-AE11-4B44-8247-95A24741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6F398-A73F-412F-9631-32AD04F3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A9936C-7883-425A-81A8-9CBB7700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0FE8A-8D06-47A6-BE43-F061E44F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876896-0F26-4915-B2FD-05F9C16F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5A6214-CFB2-4200-9D21-AB063651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E4CCF-49D3-454E-A1E3-F0966B6C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F7EBFD-6206-4D23-A782-FA395B0E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D84C7-D3CC-4CE0-A98A-B2E7BF9E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5D27C-3115-4E8A-99A1-7C8EFCAF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EE1E22-4E39-413C-A655-4235E385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695CF-F244-4AB5-AAAF-D7E834B5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E888A-3D0F-4784-A347-9EF76174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58002B-E87F-4333-9863-1685CB7F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146525-9E68-4B6F-A15C-FDC15426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134A3-DD4D-416A-8FEA-505F8402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F28472-0F5D-43B9-9361-4E8BA202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AE3F9B-6C2F-4FF4-B5EB-D687B27C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AFF78-4845-4A08-AFA1-A2C7CD4D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CC61B6-F100-41C7-814A-07944B44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8C7F37-3F62-42C7-B69D-FAD09391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2749EF-CA9C-4575-B85D-4CE9AF82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748793-885B-41D7-824D-266BEB2C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A44C1-4B96-4A7E-B2CA-EDB59758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ED8DA1-D633-4C27-BDBF-D361E2E7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6CCEB-2C67-40B8-906D-3FCAA3AD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AB71F4-99EA-4059-9509-2DDDC87D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86F99A-3B97-444C-8343-E550B0A1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D3279-2554-4BCD-8A75-43E3AAA7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829126-9781-4B4D-BDEA-8DF55489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0B9B56-5661-400E-8ED1-7DCC8E3B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9F47E0-AB21-47F6-A8C9-D6858E09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EE40D-1555-4E65-A616-173AE844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E2C70F-2EDF-42E3-9CDD-B653DE1C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552BC-A0AE-483A-AABD-C02703A0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BC4A87-5D96-4EA3-B006-FCC94060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D2649E-1B81-4320-823A-1B14D668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BB7D0F-224C-43ED-9714-1843FEFE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2D1BD2-D05B-4353-B4C2-62A0D902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7D225-831B-4D6D-A2E0-4A3EF480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D534E8-8886-4080-98BF-D0CBF2D6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149C9F-D46A-43AB-9BEF-4FCEFDBD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76D6E8-3368-4A09-ADBB-545117AA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49E1E3-F91D-4127-83A9-C0C74C66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07BC6-3C26-446F-8C6D-F3BD828E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66623-72A3-4CCE-8BA8-500DB89A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A549DE-1EC8-40AF-B2F8-6344A209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E47578-6AC7-4122-AD4F-5C748D8E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4D9456-42FA-4293-AB79-BD85FC11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ECF12-9D1A-425E-957D-D59E7285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6EEBB9-A3D5-43D4-AA7E-9AD949BD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3EE7ED-8822-48EE-9881-C90B6347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1738FB-6F47-4A70-BE54-9E4E5ABF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80C762-0C9B-4044-8B04-C1026087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1039A0-BEFF-4CBD-981E-0B293738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CF4D79-F3ED-455F-B61A-3297304D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80BBA0-7471-4A60-8405-6A64AF0365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C2B22B-7BC1-4B80-A094-65D4057F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C12D71-4F4C-4006-BC6D-28186485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E4144A-C874-4408-8BE3-E3C596CA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152FDC-DC24-4450-B1F1-9AFAAA03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52F8AE-0007-4CD1-B9D8-6ECA3E2E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833AD5-D968-4FDC-AB3D-7A8F38BC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502FCB-D0F6-444B-84B5-C5A4C873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DD8961-8DCB-4D13-AD85-8D243374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BF332E-D238-4C83-A6F1-8AC5833D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714C9E-4C45-405C-9400-35D859F2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71B38D-D4BF-43F2-BF0A-9C0E4985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3A4DA4-42DD-4AAB-AEDE-ECE2E3B1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5AD4C5-460D-4173-A445-3A8E9B80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9A0D74-BC9E-45FA-B01A-DC091308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1B51A0-C638-4DA8-AEB1-A8C5BD62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401A31-D77A-48DB-8F27-4FAF7A38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072B37-EB87-4548-BABA-2EE5856A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F115E5-43B8-47EC-8BD5-14C4C739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C2E9EA-55BD-4951-B860-BAEDD70F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F663CE-DE16-4E48-9A27-A19D7736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205934-200D-4D4B-A7F3-94D4208F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7CA9ED-1934-4FB1-A40A-9F74D708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3D3C6B-925E-4BBD-B827-99F62338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42AD8F-7CDB-4B53-966A-A1049FEA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4E19A6-C59D-49C0-80A3-F5A0B8BE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4919F5-EE07-4035-8AAC-226BA05F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535971-7649-46EF-8F27-AA1D6277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442F35-AB0A-41AC-8AAA-969BE829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067CCE-9EAD-45FA-972A-DF423F49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E75B7A-E469-4D9B-BE60-E6AD5CFC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69FE9A-7079-43F7-843B-8FEF1C06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02052A-97E7-41F5-B77D-15FC43D8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A5575E-EAA0-414F-A599-9D929CF1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DFF3D7-4886-4CD1-BE75-F9E9F417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A88C5B-E51E-4467-BFBE-4BC42349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DD11AB-EB05-4108-B3A2-E4CF7064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D43BD3-7F3F-4D76-8D81-22816AAB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3B3607-3D4C-48FF-8430-5B3E8FDE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8F0846-D080-488D-9103-A92BE366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2A5B70-08E7-42FF-A782-48797256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E9205D-AC79-4C80-8A08-E72711F8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18D7AC-8AB9-4365-8A8C-BFADF7D4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C47FE8-FB58-477F-A7BB-B77FD190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EA9A-4577-4D0D-B6DE-9561BEBD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0BF610-D88A-4AA7-AA58-0EB2462D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B6ECF3-A95A-4FBF-AB2A-D7B53AA3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75CDA5-9426-4A1F-9A2C-C1126DEC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B388CA-5E20-46B4-8540-61667B70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05A06B-C679-40C3-8011-B5CD1FDA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3E2AFC-D371-4F29-9FF5-3C0601D7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82D73E-8EAE-4A54-97CD-DB623D6591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4B975-7819-4B8D-9042-35B07B7AA7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18EC1-D8AA-42F1-B175-2493CB69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524AD-8DFE-4063-91B8-F7B38EB1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81C61-59C3-4948-A9DE-D90C8715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32EF8-F5FC-4230-AE97-7BC0B0A7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0E4BD-F4F0-44B6-9B64-196AB535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22D83-AADB-482B-AF9A-0B1EA254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498E2-8FCA-455B-BBF9-E3127621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79A06-CFA6-4082-A18D-4E455978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7C8A6-64BE-4240-BD41-029E31A1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2F388-F4D0-4ED8-B35A-60511D1E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8F3A7-1E38-4770-B416-029ABC65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78D33-F08C-4421-B99C-1E7D3B36BC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1AC92A-5DD4-426D-85BA-FB6E0AE312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2EB7-4C40-401D-8CBC-6EF1E163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0ABCE7-732F-415C-BB4E-18307327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A52DA-84B4-41D6-BE93-6E9BA584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325CC7-B4B1-493D-99DD-C1F8A582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66FCB0-E36E-471B-850E-975CD3CE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CA79D-8B18-4410-888B-401B714D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6AD223-000C-4067-82B1-282ABE00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29102C-ECA7-44B5-9457-E0DF251C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71926F-1F75-462D-BA8B-95D2473A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E51EDD-40F3-40E3-AA94-21297527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39F7D2-1F97-4B22-BA49-1CEE6F92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C453D-9F4D-4BBC-A698-110672DA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65FADB-1790-4DDB-9090-A825D1A8C5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DA3179-5D67-49E9-8822-E23D3CF54E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0996B4-2004-440E-BD9A-34FE5173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C9566A-7A4F-4543-8904-DB3EB089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3238D0-5748-4F01-B247-1D01CC42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D32419-40BC-4DCC-AF14-04D2BCB2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0D7779-186B-40F5-894B-FCD91350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E3F914-3961-4F8A-815F-3675C87D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2E482E-7ABD-486C-AB37-8B6701AA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9CF1EE-A9DB-4D17-936B-CC3DD7BB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1E3A4-32F4-46E9-A2FC-D9911B05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00FA38-4F19-4D94-A37E-832E01F7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395FE0-344B-4090-B947-4F216806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64EF6D-0ED7-4B6E-AB20-90FFF52A5A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FB4E9-0A2A-427F-A00C-4627597757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28B16-0791-459B-A160-19C71A75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2731C-0FAA-4099-96BC-63440BA4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24DF1-3B5C-4249-80EB-0221F561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7A2FC-FC43-4507-B6B1-F27CA0F2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6D811-0C31-4B69-A36C-6BD84B79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04CDA-5444-4E94-8C99-B5AC9414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DD4E7-540B-4393-BA7C-FEACC0D3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FA98A-7BA6-4E7B-9506-A6A7F674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CBEBE-970D-4FBD-BC9B-3D2E4931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F9ED0-6506-462D-9C0D-D2B36557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92111-04C3-4426-AAA5-3527B72E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5AC74-34EF-4833-BB31-BA6F6E0B7A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041574-5373-4FF1-99C6-2F354956D9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BA3A32-19B9-448B-A102-FBE486CA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5B823A-FBB2-47B9-AA7C-328E6884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442FF6-2C73-4421-A66E-C5B0A1A8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192EE6-4E94-4449-9529-CC590FCC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31DB9-7D9A-498E-9E40-94D6D2BE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A22D23-B327-4367-9349-00799311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81B2CF-9B51-4701-B437-87EE356F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E1C32-8847-47BE-90B8-1DA14D8B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509D2A-2379-4CCB-88B9-4C1040D0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D52ABC-111D-49D5-B442-87C6ADB2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E7F6CA-609A-4951-9F78-FB2E28DC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BAFC33-6AB3-4452-9690-3BEAD26988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C9FAA2-9A35-4F14-9B46-750E55C52A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777A21-9C29-42C5-AA72-5DF51311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7F937F-0FB0-46AC-83D3-005B3E90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0094-E624-43A4-934C-084BA33A562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C795-8277-46A4-A705-855722B7271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C1BE-A7C5-4DB5-821B-3C62A7C7A35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9F9C-8052-4FFB-9D21-FB62D83B3F0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E519-41D2-4D1C-A303-7FAE5B0CE9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DE34-3EB9-4420-8E90-B40D4056F39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08D5-9A69-40CF-B537-BB07DE2C0F8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4744-4FB1-4128-8FD1-2F95EE0F7A6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989A-06FF-457F-9008-B468EEF29FB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047F-BD9D-45A8-8CFB-643BB7E7E4B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6230-B6A1-42FC-BAF7-1D40494B4E8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921F-B304-42E4-AEA9-D9CAA24FD78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4D8D-F0B7-4137-BE99-5DC2CC03C6C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B4F1-B16C-46F0-9987-875B0896A57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6EBD-651D-45B2-9BF1-8175FCCA6C6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D92A-7CC8-420D-A983-20C6E60E945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C1EE-9B06-44FD-B1B2-DC411D8BF87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5233-1F27-4477-BB79-4CE7DD1F2B2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72B7-48F3-4D35-BD1D-A3320716B40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8607-3849-4C59-A4BB-F7A599375FF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A443-998E-42C9-AF9A-AF1217B14D2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174B-1A80-4902-B064-8443B1F0E86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CD53-FCAB-4496-8867-C44D194285B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5A03-2401-447B-99B1-06D8B103588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image" Target="../media/image11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1.jpeg"/><Relationship Id="rId2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Oval 5"/>
          <p:cNvSpPr/>
          <p:nvPr/>
        </p:nvSpPr>
        <p:spPr>
          <a:xfrm>
            <a:off x="2498760" y="2757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-436680" y="2727360"/>
            <a:ext cx="844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 习 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284560" y="2447640"/>
            <a:ext cx="5271840" cy="6120"/>
            <a:chOff x="2284560" y="2447640"/>
            <a:chExt cx="5271840" cy="6120"/>
          </a:xfrm>
        </p:grpSpPr>
        <p:sp>
          <p:nvSpPr>
            <p:cNvPr id="989" name="Line 10"/>
            <p:cNvSpPr/>
            <p:nvPr/>
          </p:nvSpPr>
          <p:spPr>
            <a:xfrm flipV="1">
              <a:off x="2284560" y="2447640"/>
              <a:ext cx="5271840" cy="612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 rot="10800000">
              <a:off x="2284560" y="2447280"/>
              <a:ext cx="52718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9"/>
          <p:cNvSpPr/>
          <p:nvPr/>
        </p:nvSpPr>
        <p:spPr>
          <a:xfrm>
            <a:off x="-797040" y="1746360"/>
            <a:ext cx="84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6~10</a:t>
            </a: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认识和加减法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一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组合 2"/>
          <p:cNvGrpSpPr/>
          <p:nvPr/>
        </p:nvGrpSpPr>
        <p:grpSpPr>
          <a:xfrm>
            <a:off x="0" y="155520"/>
            <a:ext cx="2408400" cy="527040"/>
            <a:chOff x="0" y="155520"/>
            <a:chExt cx="2408400" cy="527040"/>
          </a:xfrm>
        </p:grpSpPr>
        <p:pic>
          <p:nvPicPr>
            <p:cNvPr id="99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04400" y="155520"/>
              <a:ext cx="23040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9" name="组合 4"/>
            <p:cNvGrpSpPr/>
            <p:nvPr/>
          </p:nvGrpSpPr>
          <p:grpSpPr>
            <a:xfrm>
              <a:off x="0" y="250560"/>
              <a:ext cx="316440" cy="274680"/>
              <a:chOff x="0" y="250560"/>
              <a:chExt cx="316440" cy="274680"/>
            </a:xfrm>
          </p:grpSpPr>
          <p:sp>
            <p:nvSpPr>
              <p:cNvPr id="1000" name="椭圆 11"/>
              <p:cNvSpPr/>
              <p:nvPr/>
            </p:nvSpPr>
            <p:spPr>
              <a:xfrm rot="16200000">
                <a:off x="221040" y="398160"/>
                <a:ext cx="8280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000" y="394200"/>
                <a:ext cx="190080" cy="12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椭圆 29"/>
              <p:cNvSpPr/>
              <p:nvPr/>
            </p:nvSpPr>
            <p:spPr>
              <a:xfrm rot="16200000">
                <a:off x="221040" y="291960"/>
                <a:ext cx="8280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26000" y="267120"/>
                <a:ext cx="190080" cy="12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412560"/>
                <a:ext cx="24840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80880"/>
                <a:ext cx="24840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82240"/>
                <a:ext cx="24840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248400" cy="112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8" name="文本框 4194"/>
          <p:cNvSpPr/>
          <p:nvPr/>
        </p:nvSpPr>
        <p:spPr>
          <a:xfrm>
            <a:off x="832680" y="152280"/>
            <a:ext cx="106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练 习 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图片 -2147482620" descr="礼帽"/>
          <p:cNvPicPr/>
          <p:nvPr/>
        </p:nvPicPr>
        <p:blipFill>
          <a:blip r:embed="rId8"/>
          <a:stretch/>
        </p:blipFill>
        <p:spPr>
          <a:xfrm>
            <a:off x="525600" y="1316160"/>
            <a:ext cx="888840" cy="739800"/>
          </a:xfrm>
          <a:prstGeom prst="rect">
            <a:avLst/>
          </a:prstGeom>
          <a:ln w="0">
            <a:noFill/>
          </a:ln>
        </p:spPr>
      </p:pic>
      <p:sp>
        <p:nvSpPr>
          <p:cNvPr id="1010" name="文本框 1"/>
          <p:cNvSpPr/>
          <p:nvPr/>
        </p:nvSpPr>
        <p:spPr>
          <a:xfrm>
            <a:off x="487440" y="741240"/>
            <a:ext cx="15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填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图片 -2147482620" descr="礼帽"/>
          <p:cNvPicPr/>
          <p:nvPr/>
        </p:nvPicPr>
        <p:blipFill>
          <a:blip r:embed="rId9"/>
          <a:stretch/>
        </p:blipFill>
        <p:spPr>
          <a:xfrm>
            <a:off x="1579680" y="1316160"/>
            <a:ext cx="888840" cy="739800"/>
          </a:xfrm>
          <a:prstGeom prst="rect">
            <a:avLst/>
          </a:prstGeom>
          <a:ln w="0">
            <a:noFill/>
          </a:ln>
        </p:spPr>
      </p:pic>
      <p:pic>
        <p:nvPicPr>
          <p:cNvPr id="1012" name="图片 -2147482620" descr="礼帽"/>
          <p:cNvPicPr/>
          <p:nvPr/>
        </p:nvPicPr>
        <p:blipFill>
          <a:blip r:embed="rId10"/>
          <a:stretch/>
        </p:blipFill>
        <p:spPr>
          <a:xfrm>
            <a:off x="2660760" y="1316160"/>
            <a:ext cx="888840" cy="739800"/>
          </a:xfrm>
          <a:prstGeom prst="rect">
            <a:avLst/>
          </a:prstGeom>
          <a:ln w="0">
            <a:noFill/>
          </a:ln>
        </p:spPr>
      </p:pic>
      <p:pic>
        <p:nvPicPr>
          <p:cNvPr id="1013" name="图片 -2147482620" descr="礼帽"/>
          <p:cNvPicPr/>
          <p:nvPr/>
        </p:nvPicPr>
        <p:blipFill>
          <a:blip r:embed="rId11"/>
          <a:stretch/>
        </p:blipFill>
        <p:spPr>
          <a:xfrm>
            <a:off x="3803760" y="1316160"/>
            <a:ext cx="888840" cy="739800"/>
          </a:xfrm>
          <a:prstGeom prst="rect">
            <a:avLst/>
          </a:prstGeom>
          <a:ln w="0">
            <a:noFill/>
          </a:ln>
        </p:spPr>
      </p:pic>
      <p:pic>
        <p:nvPicPr>
          <p:cNvPr id="1014" name="图片 -2147482620" descr="礼帽"/>
          <p:cNvPicPr/>
          <p:nvPr/>
        </p:nvPicPr>
        <p:blipFill>
          <a:blip r:embed="rId12"/>
          <a:stretch/>
        </p:blipFill>
        <p:spPr>
          <a:xfrm>
            <a:off x="6148440" y="1316160"/>
            <a:ext cx="888840" cy="739800"/>
          </a:xfrm>
          <a:prstGeom prst="rect">
            <a:avLst/>
          </a:prstGeom>
          <a:ln w="0">
            <a:noFill/>
          </a:ln>
        </p:spPr>
      </p:pic>
      <p:pic>
        <p:nvPicPr>
          <p:cNvPr id="1015" name="图片 -2147482620" descr="礼帽"/>
          <p:cNvPicPr/>
          <p:nvPr/>
        </p:nvPicPr>
        <p:blipFill>
          <a:blip r:embed="rId13"/>
          <a:stretch/>
        </p:blipFill>
        <p:spPr>
          <a:xfrm>
            <a:off x="7148520" y="1316160"/>
            <a:ext cx="888840" cy="739800"/>
          </a:xfrm>
          <a:prstGeom prst="rect">
            <a:avLst/>
          </a:prstGeom>
          <a:ln w="0">
            <a:noFill/>
          </a:ln>
        </p:spPr>
      </p:pic>
      <p:sp>
        <p:nvSpPr>
          <p:cNvPr id="1016" name="文本框 8"/>
          <p:cNvSpPr/>
          <p:nvPr/>
        </p:nvSpPr>
        <p:spPr>
          <a:xfrm>
            <a:off x="885960" y="2197080"/>
            <a:ext cx="26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 +  2  =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文本框 9"/>
          <p:cNvSpPr/>
          <p:nvPr/>
        </p:nvSpPr>
        <p:spPr>
          <a:xfrm>
            <a:off x="4732200" y="2171880"/>
            <a:ext cx="26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 -  2  =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文本框 10"/>
          <p:cNvSpPr/>
          <p:nvPr/>
        </p:nvSpPr>
        <p:spPr>
          <a:xfrm>
            <a:off x="888840" y="2768760"/>
            <a:ext cx="26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+      =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12"/>
          <p:cNvSpPr/>
          <p:nvPr/>
        </p:nvSpPr>
        <p:spPr>
          <a:xfrm>
            <a:off x="4730760" y="2765520"/>
            <a:ext cx="267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 -      =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15"/>
          <p:cNvSpPr/>
          <p:nvPr/>
        </p:nvSpPr>
        <p:spPr>
          <a:xfrm>
            <a:off x="1692360" y="2822400"/>
            <a:ext cx="395280" cy="3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16"/>
          <p:cNvSpPr/>
          <p:nvPr/>
        </p:nvSpPr>
        <p:spPr>
          <a:xfrm>
            <a:off x="2478240" y="2247840"/>
            <a:ext cx="396720" cy="3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矩形 17"/>
          <p:cNvSpPr/>
          <p:nvPr/>
        </p:nvSpPr>
        <p:spPr>
          <a:xfrm>
            <a:off x="6289560" y="2222640"/>
            <a:ext cx="397080" cy="39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18"/>
          <p:cNvSpPr/>
          <p:nvPr/>
        </p:nvSpPr>
        <p:spPr>
          <a:xfrm>
            <a:off x="2486160" y="2822400"/>
            <a:ext cx="396720" cy="3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19"/>
          <p:cNvSpPr/>
          <p:nvPr/>
        </p:nvSpPr>
        <p:spPr>
          <a:xfrm>
            <a:off x="5467320" y="2827440"/>
            <a:ext cx="397080" cy="39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20"/>
          <p:cNvSpPr/>
          <p:nvPr/>
        </p:nvSpPr>
        <p:spPr>
          <a:xfrm>
            <a:off x="6270480" y="2813040"/>
            <a:ext cx="397080" cy="39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文本框 22"/>
          <p:cNvSpPr/>
          <p:nvPr/>
        </p:nvSpPr>
        <p:spPr>
          <a:xfrm>
            <a:off x="2495520" y="2220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文本框 26"/>
          <p:cNvSpPr/>
          <p:nvPr/>
        </p:nvSpPr>
        <p:spPr>
          <a:xfrm>
            <a:off x="6289560" y="220500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文本框 27"/>
          <p:cNvSpPr/>
          <p:nvPr/>
        </p:nvSpPr>
        <p:spPr>
          <a:xfrm>
            <a:off x="1689120" y="280368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文本框 28"/>
          <p:cNvSpPr/>
          <p:nvPr/>
        </p:nvSpPr>
        <p:spPr>
          <a:xfrm>
            <a:off x="2486160" y="279576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文本框 35"/>
          <p:cNvSpPr/>
          <p:nvPr/>
        </p:nvSpPr>
        <p:spPr>
          <a:xfrm>
            <a:off x="5460840" y="279576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文本框 36"/>
          <p:cNvSpPr/>
          <p:nvPr/>
        </p:nvSpPr>
        <p:spPr>
          <a:xfrm>
            <a:off x="6289560" y="280044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图片 -2147482608" descr="棒"/>
          <p:cNvPicPr/>
          <p:nvPr/>
        </p:nvPicPr>
        <p:blipFill>
          <a:blip r:embed="rId14"/>
          <a:stretch/>
        </p:blipFill>
        <p:spPr>
          <a:xfrm>
            <a:off x="866880" y="3425760"/>
            <a:ext cx="637920" cy="88920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-2147482608" descr="棒"/>
          <p:cNvPicPr/>
          <p:nvPr/>
        </p:nvPicPr>
        <p:blipFill>
          <a:blip r:embed="rId15"/>
          <a:stretch/>
        </p:blipFill>
        <p:spPr>
          <a:xfrm>
            <a:off x="1665360" y="3425760"/>
            <a:ext cx="638280" cy="88920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-2147482608" descr="棒"/>
          <p:cNvPicPr/>
          <p:nvPr/>
        </p:nvPicPr>
        <p:blipFill>
          <a:blip r:embed="rId16"/>
          <a:stretch/>
        </p:blipFill>
        <p:spPr>
          <a:xfrm>
            <a:off x="7362720" y="3425760"/>
            <a:ext cx="638280" cy="88920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-2147482608" descr="棒"/>
          <p:cNvPicPr/>
          <p:nvPr/>
        </p:nvPicPr>
        <p:blipFill>
          <a:blip r:embed="rId17"/>
          <a:stretch/>
        </p:blipFill>
        <p:spPr>
          <a:xfrm>
            <a:off x="4019400" y="3425760"/>
            <a:ext cx="638280" cy="88920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-2147482608" descr="棒"/>
          <p:cNvPicPr/>
          <p:nvPr/>
        </p:nvPicPr>
        <p:blipFill>
          <a:blip r:embed="rId18"/>
          <a:stretch/>
        </p:blipFill>
        <p:spPr>
          <a:xfrm>
            <a:off x="4908600" y="3425760"/>
            <a:ext cx="638280" cy="88920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-2147482608" descr="棒"/>
          <p:cNvPicPr/>
          <p:nvPr/>
        </p:nvPicPr>
        <p:blipFill>
          <a:blip r:embed="rId19"/>
          <a:stretch/>
        </p:blipFill>
        <p:spPr>
          <a:xfrm>
            <a:off x="5726160" y="3425760"/>
            <a:ext cx="638280" cy="88920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-2147482608" descr="棒"/>
          <p:cNvPicPr/>
          <p:nvPr/>
        </p:nvPicPr>
        <p:blipFill>
          <a:blip r:embed="rId20"/>
          <a:stretch/>
        </p:blipFill>
        <p:spPr>
          <a:xfrm>
            <a:off x="6505560" y="3425760"/>
            <a:ext cx="638280" cy="889200"/>
          </a:xfrm>
          <a:prstGeom prst="rect">
            <a:avLst/>
          </a:prstGeom>
          <a:ln w="0">
            <a:noFill/>
          </a:ln>
        </p:spPr>
      </p:pic>
      <p:sp>
        <p:nvSpPr>
          <p:cNvPr id="1039" name="文本框 44"/>
          <p:cNvSpPr/>
          <p:nvPr/>
        </p:nvSpPr>
        <p:spPr>
          <a:xfrm>
            <a:off x="868320" y="4476600"/>
            <a:ext cx="26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 +  2  =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45"/>
          <p:cNvSpPr/>
          <p:nvPr/>
        </p:nvSpPr>
        <p:spPr>
          <a:xfrm>
            <a:off x="4705200" y="4421160"/>
            <a:ext cx="26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  -      =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文本框 46"/>
          <p:cNvSpPr/>
          <p:nvPr/>
        </p:nvSpPr>
        <p:spPr>
          <a:xfrm>
            <a:off x="863640" y="5057640"/>
            <a:ext cx="26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+      =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文本框 47"/>
          <p:cNvSpPr/>
          <p:nvPr/>
        </p:nvSpPr>
        <p:spPr>
          <a:xfrm>
            <a:off x="4724280" y="5008680"/>
            <a:ext cx="26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  -      =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48"/>
          <p:cNvSpPr/>
          <p:nvPr/>
        </p:nvSpPr>
        <p:spPr>
          <a:xfrm>
            <a:off x="2455920" y="4527720"/>
            <a:ext cx="396720" cy="39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49"/>
          <p:cNvSpPr/>
          <p:nvPr/>
        </p:nvSpPr>
        <p:spPr>
          <a:xfrm>
            <a:off x="1658880" y="5118120"/>
            <a:ext cx="395280" cy="39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50"/>
          <p:cNvSpPr/>
          <p:nvPr/>
        </p:nvSpPr>
        <p:spPr>
          <a:xfrm>
            <a:off x="2470320" y="5110200"/>
            <a:ext cx="396720" cy="3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51"/>
          <p:cNvSpPr/>
          <p:nvPr/>
        </p:nvSpPr>
        <p:spPr>
          <a:xfrm>
            <a:off x="6305400" y="4479840"/>
            <a:ext cx="397080" cy="3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52"/>
          <p:cNvSpPr/>
          <p:nvPr/>
        </p:nvSpPr>
        <p:spPr>
          <a:xfrm>
            <a:off x="5508720" y="5070600"/>
            <a:ext cx="396720" cy="39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53"/>
          <p:cNvSpPr/>
          <p:nvPr/>
        </p:nvSpPr>
        <p:spPr>
          <a:xfrm>
            <a:off x="6319800" y="5062680"/>
            <a:ext cx="397080" cy="39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54"/>
          <p:cNvSpPr/>
          <p:nvPr/>
        </p:nvSpPr>
        <p:spPr>
          <a:xfrm>
            <a:off x="5508720" y="4486320"/>
            <a:ext cx="396720" cy="39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55"/>
          <p:cNvSpPr/>
          <p:nvPr/>
        </p:nvSpPr>
        <p:spPr>
          <a:xfrm>
            <a:off x="2478240" y="448956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文本框 56"/>
          <p:cNvSpPr/>
          <p:nvPr/>
        </p:nvSpPr>
        <p:spPr>
          <a:xfrm>
            <a:off x="1673280" y="5102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文本框 57"/>
          <p:cNvSpPr/>
          <p:nvPr/>
        </p:nvSpPr>
        <p:spPr>
          <a:xfrm>
            <a:off x="2478240" y="507060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文本框 58"/>
          <p:cNvSpPr/>
          <p:nvPr/>
        </p:nvSpPr>
        <p:spPr>
          <a:xfrm>
            <a:off x="5538960" y="444816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文本框 59"/>
          <p:cNvSpPr/>
          <p:nvPr/>
        </p:nvSpPr>
        <p:spPr>
          <a:xfrm>
            <a:off x="6311880" y="445788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文本框 60"/>
          <p:cNvSpPr/>
          <p:nvPr/>
        </p:nvSpPr>
        <p:spPr>
          <a:xfrm>
            <a:off x="5530680" y="504828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文本框 61"/>
          <p:cNvSpPr/>
          <p:nvPr/>
        </p:nvSpPr>
        <p:spPr>
          <a:xfrm>
            <a:off x="6326280" y="5037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矩形 8"/>
          <p:cNvSpPr/>
          <p:nvPr/>
        </p:nvSpPr>
        <p:spPr>
          <a:xfrm>
            <a:off x="1357200" y="1424160"/>
            <a:ext cx="1079640" cy="44604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宋体"/>
              </a:rPr>
              <a:t>7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9"/>
          <p:cNvSpPr/>
          <p:nvPr/>
        </p:nvSpPr>
        <p:spPr>
          <a:xfrm>
            <a:off x="1357200" y="2322360"/>
            <a:ext cx="1079640" cy="44640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宋体"/>
              </a:rPr>
              <a:t>7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10"/>
          <p:cNvSpPr/>
          <p:nvPr/>
        </p:nvSpPr>
        <p:spPr>
          <a:xfrm>
            <a:off x="1357200" y="3220920"/>
            <a:ext cx="1079640" cy="44604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宋体"/>
              </a:rPr>
              <a:t>4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12"/>
          <p:cNvSpPr/>
          <p:nvPr/>
        </p:nvSpPr>
        <p:spPr>
          <a:xfrm>
            <a:off x="1357200" y="4119480"/>
            <a:ext cx="1079640" cy="44604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宋体"/>
              </a:rPr>
              <a:t>6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14"/>
          <p:cNvSpPr/>
          <p:nvPr/>
        </p:nvSpPr>
        <p:spPr>
          <a:xfrm>
            <a:off x="1357200" y="5018040"/>
            <a:ext cx="1079640" cy="44604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宋体"/>
              </a:rPr>
              <a:t>6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"/>
          <p:cNvSpPr/>
          <p:nvPr/>
        </p:nvSpPr>
        <p:spPr>
          <a:xfrm>
            <a:off x="6507000" y="1424160"/>
            <a:ext cx="1079640" cy="44604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宋体"/>
              </a:rPr>
              <a:t>6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2"/>
          <p:cNvSpPr/>
          <p:nvPr/>
        </p:nvSpPr>
        <p:spPr>
          <a:xfrm>
            <a:off x="6507000" y="2322360"/>
            <a:ext cx="1079640" cy="44640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宋体"/>
              </a:rPr>
              <a:t>6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3"/>
          <p:cNvSpPr/>
          <p:nvPr/>
        </p:nvSpPr>
        <p:spPr>
          <a:xfrm>
            <a:off x="6507000" y="3220920"/>
            <a:ext cx="1079640" cy="44604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宋体"/>
              </a:rPr>
              <a:t>2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4"/>
          <p:cNvSpPr/>
          <p:nvPr/>
        </p:nvSpPr>
        <p:spPr>
          <a:xfrm>
            <a:off x="6507000" y="4119480"/>
            <a:ext cx="1079640" cy="44604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宋体"/>
              </a:rPr>
              <a:t>1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6"/>
          <p:cNvSpPr/>
          <p:nvPr/>
        </p:nvSpPr>
        <p:spPr>
          <a:xfrm>
            <a:off x="6507000" y="5018040"/>
            <a:ext cx="1079640" cy="44604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宋体"/>
              </a:rPr>
              <a:t>5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7"/>
          <p:cNvSpPr/>
          <p:nvPr/>
        </p:nvSpPr>
        <p:spPr>
          <a:xfrm>
            <a:off x="657360" y="736560"/>
            <a:ext cx="29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连一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15"/>
          <p:cNvSpPr/>
          <p:nvPr/>
        </p:nvSpPr>
        <p:spPr>
          <a:xfrm>
            <a:off x="4368960" y="1424160"/>
            <a:ext cx="546120" cy="44604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宋体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16"/>
          <p:cNvSpPr/>
          <p:nvPr/>
        </p:nvSpPr>
        <p:spPr>
          <a:xfrm>
            <a:off x="4368960" y="2322360"/>
            <a:ext cx="546120" cy="44640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宋体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17"/>
          <p:cNvSpPr/>
          <p:nvPr/>
        </p:nvSpPr>
        <p:spPr>
          <a:xfrm>
            <a:off x="4368960" y="3220920"/>
            <a:ext cx="546120" cy="44604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宋体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18"/>
          <p:cNvSpPr/>
          <p:nvPr/>
        </p:nvSpPr>
        <p:spPr>
          <a:xfrm>
            <a:off x="4368960" y="4119480"/>
            <a:ext cx="546120" cy="44604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宋体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19"/>
          <p:cNvSpPr/>
          <p:nvPr/>
        </p:nvSpPr>
        <p:spPr>
          <a:xfrm>
            <a:off x="4368960" y="5018040"/>
            <a:ext cx="546120" cy="44604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宋体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直接连接符 21"/>
          <p:cNvSpPr/>
          <p:nvPr/>
        </p:nvSpPr>
        <p:spPr>
          <a:xfrm>
            <a:off x="2436840" y="1647720"/>
            <a:ext cx="1932120" cy="2695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直接连接符 22"/>
          <p:cNvSpPr/>
          <p:nvPr/>
        </p:nvSpPr>
        <p:spPr>
          <a:xfrm flipH="1">
            <a:off x="2436480" y="1647720"/>
            <a:ext cx="1932120" cy="898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直接连接符 23"/>
          <p:cNvSpPr/>
          <p:nvPr/>
        </p:nvSpPr>
        <p:spPr>
          <a:xfrm flipH="1" flipV="1">
            <a:off x="2436480" y="3444840"/>
            <a:ext cx="1932120" cy="1797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直接连接符 24"/>
          <p:cNvSpPr/>
          <p:nvPr/>
        </p:nvSpPr>
        <p:spPr>
          <a:xfrm flipH="1">
            <a:off x="2436480" y="4343400"/>
            <a:ext cx="19321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直接连接符 25"/>
          <p:cNvSpPr/>
          <p:nvPr/>
        </p:nvSpPr>
        <p:spPr>
          <a:xfrm flipH="1">
            <a:off x="2436480" y="1700280"/>
            <a:ext cx="1919160" cy="354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直接连接符 26"/>
          <p:cNvSpPr/>
          <p:nvPr/>
        </p:nvSpPr>
        <p:spPr>
          <a:xfrm flipV="1">
            <a:off x="4948200" y="1647720"/>
            <a:ext cx="1558800" cy="1758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直接连接符 27"/>
          <p:cNvSpPr/>
          <p:nvPr/>
        </p:nvSpPr>
        <p:spPr>
          <a:xfrm flipH="1">
            <a:off x="4915080" y="2546280"/>
            <a:ext cx="15919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直接连接符 28"/>
          <p:cNvSpPr/>
          <p:nvPr/>
        </p:nvSpPr>
        <p:spPr>
          <a:xfrm flipH="1">
            <a:off x="4915080" y="3444840"/>
            <a:ext cx="1591920" cy="1797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直接连接符 35"/>
          <p:cNvSpPr/>
          <p:nvPr/>
        </p:nvSpPr>
        <p:spPr>
          <a:xfrm flipH="1">
            <a:off x="4915080" y="4343400"/>
            <a:ext cx="1591920" cy="898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直接连接符 36"/>
          <p:cNvSpPr/>
          <p:nvPr/>
        </p:nvSpPr>
        <p:spPr>
          <a:xfrm flipH="1" flipV="1">
            <a:off x="4915080" y="3444840"/>
            <a:ext cx="1591920" cy="1797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组合 38"/>
          <p:cNvGrpSpPr/>
          <p:nvPr/>
        </p:nvGrpSpPr>
        <p:grpSpPr>
          <a:xfrm>
            <a:off x="1484280" y="1693800"/>
            <a:ext cx="1800360" cy="446040"/>
            <a:chOff x="1484280" y="1693800"/>
            <a:chExt cx="1800360" cy="446040"/>
          </a:xfrm>
        </p:grpSpPr>
        <p:sp>
          <p:nvSpPr>
            <p:cNvPr id="1084" name="矩形 20"/>
            <p:cNvSpPr/>
            <p:nvPr/>
          </p:nvSpPr>
          <p:spPr>
            <a:xfrm>
              <a:off x="1484280" y="1693800"/>
              <a:ext cx="1800360" cy="4460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Arial"/>
                  <a:ea typeface="宋体"/>
                </a:rPr>
                <a:t>7      2 =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椭圆 37"/>
            <p:cNvSpPr/>
            <p:nvPr/>
          </p:nvSpPr>
          <p:spPr>
            <a:xfrm>
              <a:off x="1923120" y="1701720"/>
              <a:ext cx="432000" cy="431640"/>
            </a:xfrm>
            <a:prstGeom prst="ellipse">
              <a:avLst/>
            </a:prstGeom>
            <a:noFill/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组合 39"/>
          <p:cNvGrpSpPr/>
          <p:nvPr/>
        </p:nvGrpSpPr>
        <p:grpSpPr>
          <a:xfrm>
            <a:off x="1484280" y="2387520"/>
            <a:ext cx="1800360" cy="446040"/>
            <a:chOff x="1484280" y="2387520"/>
            <a:chExt cx="1800360" cy="446040"/>
          </a:xfrm>
        </p:grpSpPr>
        <p:sp>
          <p:nvSpPr>
            <p:cNvPr id="1087" name="矩形 40"/>
            <p:cNvSpPr/>
            <p:nvPr/>
          </p:nvSpPr>
          <p:spPr>
            <a:xfrm>
              <a:off x="1484280" y="2387520"/>
              <a:ext cx="1800360" cy="4460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Arial"/>
                  <a:ea typeface="宋体"/>
                </a:rPr>
                <a:t>4      3 =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椭圆 41"/>
            <p:cNvSpPr/>
            <p:nvPr/>
          </p:nvSpPr>
          <p:spPr>
            <a:xfrm>
              <a:off x="1922760" y="2395440"/>
              <a:ext cx="431640" cy="431640"/>
            </a:xfrm>
            <a:prstGeom prst="ellipse">
              <a:avLst/>
            </a:prstGeom>
            <a:noFill/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组合 42"/>
          <p:cNvGrpSpPr/>
          <p:nvPr/>
        </p:nvGrpSpPr>
        <p:grpSpPr>
          <a:xfrm>
            <a:off x="1484280" y="3081240"/>
            <a:ext cx="1800360" cy="446040"/>
            <a:chOff x="1484280" y="3081240"/>
            <a:chExt cx="1800360" cy="446040"/>
          </a:xfrm>
        </p:grpSpPr>
        <p:sp>
          <p:nvSpPr>
            <p:cNvPr id="1090" name="矩形 43"/>
            <p:cNvSpPr/>
            <p:nvPr/>
          </p:nvSpPr>
          <p:spPr>
            <a:xfrm>
              <a:off x="1484280" y="3081240"/>
              <a:ext cx="1800360" cy="4460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Arial"/>
                  <a:ea typeface="宋体"/>
                </a:rPr>
                <a:t>2      5 =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椭圆 44"/>
            <p:cNvSpPr/>
            <p:nvPr/>
          </p:nvSpPr>
          <p:spPr>
            <a:xfrm>
              <a:off x="1922760" y="3089160"/>
              <a:ext cx="431640" cy="431640"/>
            </a:xfrm>
            <a:prstGeom prst="ellipse">
              <a:avLst/>
            </a:prstGeom>
            <a:noFill/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组合 45"/>
          <p:cNvGrpSpPr/>
          <p:nvPr/>
        </p:nvGrpSpPr>
        <p:grpSpPr>
          <a:xfrm>
            <a:off x="1484280" y="3774960"/>
            <a:ext cx="1800360" cy="444600"/>
            <a:chOff x="1484280" y="3774960"/>
            <a:chExt cx="1800360" cy="444600"/>
          </a:xfrm>
        </p:grpSpPr>
        <p:sp>
          <p:nvSpPr>
            <p:cNvPr id="1093" name="矩形 46"/>
            <p:cNvSpPr/>
            <p:nvPr/>
          </p:nvSpPr>
          <p:spPr>
            <a:xfrm>
              <a:off x="1484280" y="3774960"/>
              <a:ext cx="1800360" cy="4446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Arial"/>
                  <a:ea typeface="宋体"/>
                </a:rPr>
                <a:t>6      1 =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椭圆 47"/>
            <p:cNvSpPr/>
            <p:nvPr/>
          </p:nvSpPr>
          <p:spPr>
            <a:xfrm>
              <a:off x="1922760" y="3782880"/>
              <a:ext cx="431640" cy="430200"/>
            </a:xfrm>
            <a:prstGeom prst="ellipse">
              <a:avLst/>
            </a:prstGeom>
            <a:noFill/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组合 48"/>
          <p:cNvGrpSpPr/>
          <p:nvPr/>
        </p:nvGrpSpPr>
        <p:grpSpPr>
          <a:xfrm>
            <a:off x="1484280" y="4467240"/>
            <a:ext cx="1800360" cy="447840"/>
            <a:chOff x="1484280" y="4467240"/>
            <a:chExt cx="1800360" cy="447840"/>
          </a:xfrm>
        </p:grpSpPr>
        <p:sp>
          <p:nvSpPr>
            <p:cNvPr id="1096" name="矩形 49"/>
            <p:cNvSpPr/>
            <p:nvPr/>
          </p:nvSpPr>
          <p:spPr>
            <a:xfrm>
              <a:off x="1484280" y="4467240"/>
              <a:ext cx="1800360" cy="4478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Arial"/>
                  <a:ea typeface="宋体"/>
                </a:rPr>
                <a:t>5      1 =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椭圆 50"/>
            <p:cNvSpPr/>
            <p:nvPr/>
          </p:nvSpPr>
          <p:spPr>
            <a:xfrm>
              <a:off x="1922760" y="4475160"/>
              <a:ext cx="431640" cy="433440"/>
            </a:xfrm>
            <a:prstGeom prst="ellipse">
              <a:avLst/>
            </a:prstGeom>
            <a:noFill/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组合 54"/>
          <p:cNvGrpSpPr/>
          <p:nvPr/>
        </p:nvGrpSpPr>
        <p:grpSpPr>
          <a:xfrm>
            <a:off x="5199120" y="1677960"/>
            <a:ext cx="1800000" cy="446040"/>
            <a:chOff x="5199120" y="1677960"/>
            <a:chExt cx="1800000" cy="446040"/>
          </a:xfrm>
        </p:grpSpPr>
        <p:sp>
          <p:nvSpPr>
            <p:cNvPr id="1099" name="矩形 55"/>
            <p:cNvSpPr/>
            <p:nvPr/>
          </p:nvSpPr>
          <p:spPr>
            <a:xfrm>
              <a:off x="5199120" y="1677960"/>
              <a:ext cx="1800000" cy="4460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Arial"/>
                  <a:ea typeface="宋体"/>
                </a:rPr>
                <a:t>6      3 =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椭圆 56"/>
            <p:cNvSpPr/>
            <p:nvPr/>
          </p:nvSpPr>
          <p:spPr>
            <a:xfrm>
              <a:off x="5637600" y="1685880"/>
              <a:ext cx="431640" cy="431640"/>
            </a:xfrm>
            <a:prstGeom prst="ellipse">
              <a:avLst/>
            </a:prstGeom>
            <a:noFill/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组合 57"/>
          <p:cNvGrpSpPr/>
          <p:nvPr/>
        </p:nvGrpSpPr>
        <p:grpSpPr>
          <a:xfrm>
            <a:off x="5199120" y="2371680"/>
            <a:ext cx="1800000" cy="444600"/>
            <a:chOff x="5199120" y="2371680"/>
            <a:chExt cx="1800000" cy="444600"/>
          </a:xfrm>
        </p:grpSpPr>
        <p:sp>
          <p:nvSpPr>
            <p:cNvPr id="1102" name="矩形 58"/>
            <p:cNvSpPr/>
            <p:nvPr/>
          </p:nvSpPr>
          <p:spPr>
            <a:xfrm>
              <a:off x="5199120" y="2371680"/>
              <a:ext cx="1800000" cy="4446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Arial"/>
                  <a:ea typeface="宋体"/>
                </a:rPr>
                <a:t>7      4 =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椭圆 59"/>
            <p:cNvSpPr/>
            <p:nvPr/>
          </p:nvSpPr>
          <p:spPr>
            <a:xfrm>
              <a:off x="5637600" y="2379600"/>
              <a:ext cx="431640" cy="430200"/>
            </a:xfrm>
            <a:prstGeom prst="ellipse">
              <a:avLst/>
            </a:prstGeom>
            <a:noFill/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组合 60"/>
          <p:cNvGrpSpPr/>
          <p:nvPr/>
        </p:nvGrpSpPr>
        <p:grpSpPr>
          <a:xfrm>
            <a:off x="5199120" y="3063960"/>
            <a:ext cx="1800000" cy="446040"/>
            <a:chOff x="5199120" y="3063960"/>
            <a:chExt cx="1800000" cy="446040"/>
          </a:xfrm>
        </p:grpSpPr>
        <p:sp>
          <p:nvSpPr>
            <p:cNvPr id="1105" name="矩形 61"/>
            <p:cNvSpPr/>
            <p:nvPr/>
          </p:nvSpPr>
          <p:spPr>
            <a:xfrm>
              <a:off x="5199120" y="3063960"/>
              <a:ext cx="1800000" cy="4460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Arial"/>
                  <a:ea typeface="宋体"/>
                </a:rPr>
                <a:t>6      2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椭圆 62"/>
            <p:cNvSpPr/>
            <p:nvPr/>
          </p:nvSpPr>
          <p:spPr>
            <a:xfrm>
              <a:off x="5637600" y="3071880"/>
              <a:ext cx="431640" cy="431640"/>
            </a:xfrm>
            <a:prstGeom prst="ellipse">
              <a:avLst/>
            </a:prstGeom>
            <a:noFill/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组合 63"/>
          <p:cNvGrpSpPr/>
          <p:nvPr/>
        </p:nvGrpSpPr>
        <p:grpSpPr>
          <a:xfrm>
            <a:off x="5199120" y="3757680"/>
            <a:ext cx="1800000" cy="446040"/>
            <a:chOff x="5199120" y="3757680"/>
            <a:chExt cx="1800000" cy="446040"/>
          </a:xfrm>
        </p:grpSpPr>
        <p:sp>
          <p:nvSpPr>
            <p:cNvPr id="1108" name="矩形 64"/>
            <p:cNvSpPr/>
            <p:nvPr/>
          </p:nvSpPr>
          <p:spPr>
            <a:xfrm>
              <a:off x="5199120" y="3757680"/>
              <a:ext cx="1800000" cy="4460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Arial"/>
                  <a:ea typeface="宋体"/>
                </a:rPr>
                <a:t>7      5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椭圆 65"/>
            <p:cNvSpPr/>
            <p:nvPr/>
          </p:nvSpPr>
          <p:spPr>
            <a:xfrm>
              <a:off x="5637600" y="3765600"/>
              <a:ext cx="431640" cy="431640"/>
            </a:xfrm>
            <a:prstGeom prst="ellipse">
              <a:avLst/>
            </a:prstGeom>
            <a:noFill/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组合 66"/>
          <p:cNvGrpSpPr/>
          <p:nvPr/>
        </p:nvGrpSpPr>
        <p:grpSpPr>
          <a:xfrm>
            <a:off x="5199120" y="4451400"/>
            <a:ext cx="1800000" cy="446040"/>
            <a:chOff x="5199120" y="4451400"/>
            <a:chExt cx="1800000" cy="446040"/>
          </a:xfrm>
        </p:grpSpPr>
        <p:sp>
          <p:nvSpPr>
            <p:cNvPr id="1111" name="矩形 67"/>
            <p:cNvSpPr/>
            <p:nvPr/>
          </p:nvSpPr>
          <p:spPr>
            <a:xfrm>
              <a:off x="5199120" y="4451400"/>
              <a:ext cx="1800000" cy="4460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Arial"/>
                  <a:ea typeface="宋体"/>
                </a:rPr>
                <a:t>7      1 =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椭圆 68"/>
            <p:cNvSpPr/>
            <p:nvPr/>
          </p:nvSpPr>
          <p:spPr>
            <a:xfrm>
              <a:off x="5637600" y="4459320"/>
              <a:ext cx="431640" cy="431640"/>
            </a:xfrm>
            <a:prstGeom prst="ellipse">
              <a:avLst/>
            </a:prstGeom>
            <a:noFill/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文本框 72"/>
          <p:cNvSpPr/>
          <p:nvPr/>
        </p:nvSpPr>
        <p:spPr>
          <a:xfrm>
            <a:off x="682560" y="885960"/>
            <a:ext cx="36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填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”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73"/>
          <p:cNvSpPr/>
          <p:nvPr/>
        </p:nvSpPr>
        <p:spPr>
          <a:xfrm>
            <a:off x="1947960" y="1662120"/>
            <a:ext cx="4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74"/>
          <p:cNvSpPr/>
          <p:nvPr/>
        </p:nvSpPr>
        <p:spPr>
          <a:xfrm>
            <a:off x="5680080" y="1647720"/>
            <a:ext cx="4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75"/>
          <p:cNvSpPr/>
          <p:nvPr/>
        </p:nvSpPr>
        <p:spPr>
          <a:xfrm>
            <a:off x="1940040" y="2357280"/>
            <a:ext cx="4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76"/>
          <p:cNvSpPr/>
          <p:nvPr/>
        </p:nvSpPr>
        <p:spPr>
          <a:xfrm>
            <a:off x="5661000" y="2335320"/>
            <a:ext cx="4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77"/>
          <p:cNvSpPr/>
          <p:nvPr/>
        </p:nvSpPr>
        <p:spPr>
          <a:xfrm>
            <a:off x="1973160" y="3059280"/>
            <a:ext cx="4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78"/>
          <p:cNvSpPr/>
          <p:nvPr/>
        </p:nvSpPr>
        <p:spPr>
          <a:xfrm>
            <a:off x="5665680" y="3019320"/>
            <a:ext cx="4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文本框 79"/>
          <p:cNvSpPr/>
          <p:nvPr/>
        </p:nvSpPr>
        <p:spPr>
          <a:xfrm>
            <a:off x="1981080" y="3736800"/>
            <a:ext cx="4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文本框 80"/>
          <p:cNvSpPr/>
          <p:nvPr/>
        </p:nvSpPr>
        <p:spPr>
          <a:xfrm>
            <a:off x="5672160" y="3728880"/>
            <a:ext cx="4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文本框 82"/>
          <p:cNvSpPr/>
          <p:nvPr/>
        </p:nvSpPr>
        <p:spPr>
          <a:xfrm>
            <a:off x="1955880" y="4446720"/>
            <a:ext cx="4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84"/>
          <p:cNvSpPr/>
          <p:nvPr/>
        </p:nvSpPr>
        <p:spPr>
          <a:xfrm>
            <a:off x="5676840" y="4411800"/>
            <a:ext cx="4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dc:language>en-US</dc:language>
  <cp:lastModifiedBy>万润仪器贸易公司</cp:lastModifiedBy>
  <dcterms:modified xsi:type="dcterms:W3CDTF">2020-08-18T09:47:34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